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684-C957-4588-B5F0-816413B8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8AB-BA10-422A-A569-3A480B73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952DE-2F9F-4B0B-BD3A-11E6E9F9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82393-C529-49DE-920F-4765AD57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E6E97-5254-4175-BF71-32AD2443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4A48B-5AF4-4FFE-86F4-24402545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0F2A1-1BD0-4122-ADAB-353F0EDA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1ABFA-D786-4854-9A9E-EF4ADCAC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AD8DA-AEB1-461E-94D9-D7606767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9F23F-CDCF-4D24-B497-DFBA937E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E26C9-855B-4334-9FDE-4845FE84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4E10E-6BFF-4B67-B0F6-FD825D99E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51B-5D0D-4D35-A36A-BEABDE94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2CD90-9CA6-4A70-B964-CD5665B8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1EAD8-5410-402D-8783-F0D4DFCF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602FB-993A-4312-BAD2-E6DFEF78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1DD6E3-BE97-479F-8674-3F26DF39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70A82-074B-499D-B7D0-8E6C0997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6486C-A785-4B00-B42C-60082B46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3582B-8A47-4305-86BD-A53D0A4F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81EBE-3F94-4B3A-B04D-361050A4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9B459-7882-4C09-A675-567BB19A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37DD4-D6C9-4FDC-9082-4414A1CF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01D-BEB4-4F87-9718-B27A0BE8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9A25C-E88C-4F34-AFB6-DCCA0765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36C79-FF0C-4839-9120-DE773A8C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AAB81-AAE2-4F0C-A6B9-C20F8C57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D8F28-69A4-4993-B673-70975294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D8EA0-8F6F-4AA2-A626-94AF72D5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F6AFB-14B7-4F81-9C63-1F26EB0D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5770B-0EC2-4F86-A5DD-6154C8F1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61654-16DB-417A-B4F4-BE6FF868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CA706-6C65-4A6E-B83E-AB7FF92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E6DBB-7085-4E69-9345-18D4BF44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5729-10AB-4471-88C8-29E1B5F6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C0962-2505-4091-AEE5-54C874DD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269A49-DD77-48C6-AD01-29815D6D1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C9C43-7339-4B8B-A5D2-B395DA52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07815-CF75-467C-AB08-572850CF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B8301-96C7-4C28-8E18-59799D31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A104E-4E35-4020-A16D-C3B96B45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021CA-5F96-4421-BAC4-E67C84D8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3A7500-4F3E-4335-9F60-D22758B0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0CB91-4115-4687-98F1-CB49E090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2BF81-1F3F-4017-8DE0-3E790375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4FE1-0A6D-4739-9FAA-BECFBA04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B35B4-453C-4093-B74F-FAC8A840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D45039-3CC7-4320-8515-DC25080C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2883E-9E20-4C03-9347-198593C8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01BC5C-8462-4912-9C8E-97F38CA3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74885-3B73-496A-B651-EBA8EA70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86AF1-C3D1-4263-9C3E-340584FB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96343D-C712-417D-B784-8ABCE946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BE2A51-B86E-4E0C-B938-39B3A8A0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9F3E9-BF68-447F-AA7B-70A88B9F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12664A-91B7-48EA-8A52-18D52375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0D4C-0856-43DB-9EAF-BD52173B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2251D7-ACBE-43CF-8434-79806EFC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AAF73-9103-4D92-B34C-A19040C5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32B9EF-2FF7-464F-8C0A-56CD9BF7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9D3146-2801-40F0-AC75-8AF0A962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8DC78-8551-4A5A-A468-FF74003B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9FA6C-CDE6-4DA0-BD75-38D30957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5BBB8-5790-4E08-9262-A2AFC795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91118-3863-463C-98BF-631000C6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7C158-FEC6-4A77-8D7D-FA10AE48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F73EF-02FC-4B60-849D-A9F3ABF3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FB07-4090-47AA-A9C3-CF821CC1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44E793-58A3-4B93-B61F-3F91ADA6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5D1FC5-525B-435C-B0E8-88A19972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6CA28-5D77-4AF2-BDC5-D7115D22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C4870-8B50-499F-8E0C-0D35473A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229E4-F5E2-49D9-82C2-5FF35F31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AD3B1-D5E9-48F5-9F02-B472D77A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151466-C06D-4B98-8D2B-2374FE12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55330-3E58-417B-A2BA-F42971D44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915E6-0F07-43F1-838A-9467EC82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2F0F85-37A3-4938-B281-46CB21DA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6709-D5F1-46BE-AF9D-34C299CB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9C210C-C0DF-46AB-8106-386B7622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AF5DFF-259B-4F29-99C4-4FA84C9C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7656DC-5E83-4678-804C-B3D65936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6066B-6BD2-49B5-A1A1-98558423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FBD66-C325-44D1-9C46-FADB1E07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E5025C-DE85-442A-8EBC-AE86F8C7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C7C95F-1554-4602-9D0F-B5CF080C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928ACA-E638-4974-ACB6-C11254B2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4421D-EEFB-45FC-B6BC-4A8B0DCA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8C7DDB-93DA-4052-B0A5-47B727C5B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936F-30B6-4675-9F18-AD4B2B42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BB7B2-D85D-4EFA-AA8D-AC613922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CF5A7-9F2F-4B7A-94C5-D7B12E05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CD92DB-7556-4125-B211-14EBD075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D1FA9-AC82-467F-92E7-A8396D99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ED78D-E5B7-4EA7-B5FD-8AF6832D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2C37F8-5B01-4218-BEF2-5E952630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7BE80-F79E-4697-85FC-EE6B2F04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532EE-329C-4B54-A233-A4A92F81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95EE76-A648-4DFE-B496-5B5401CC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C5B32-967A-474A-92FF-59293E5D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6199-7025-440F-9D21-AC90F69F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A8A21-BAA7-467E-9845-C48F302E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A1315-32DD-46F1-95BB-B822C1D1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EF634-A4D0-4908-A21B-249DF259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F0818-C458-4857-A19D-1FCC8953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2293AE-6187-4531-869E-DB877CE9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D22B50-3122-4B83-B888-0F9D54EC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3543C1-9270-4DCC-AA22-1B32B660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F5A81-4551-4D88-91CC-50B0AD86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1AB76-6C53-4F66-9D12-0D8451AB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52874-0C64-4FAD-8F06-AC86A630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8CB6-33B0-4602-AFEE-4B6AC464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83D6-012E-4D4F-9152-46D20132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E60819-CDFF-4F43-A0F6-8D0AF682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8BA01-FCBC-4455-A4E1-FCD66B23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D355C0-9A76-415E-A294-7EA2636D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E57CB8-282D-4BF9-A630-1C8FFDB7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B1D30-2B1A-4481-8BC7-F3DA40E8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5B95B-62D1-4D11-8068-EF9E0017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44C68-1851-4174-A8A8-40F900E9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FCA98-F7D3-4F2D-A1A8-5FF83CDE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FCE5DA-7C3B-4F12-8DA8-14855251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1936BF-9D89-4E2A-A091-AF5239D8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4BB8-8741-4083-B72F-973D907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17F8F1-38A9-4BB4-ACD8-676909EB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97DF0-C3E9-4B1E-9387-89BA4DDB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C49708-861E-4F35-89A8-BCF2EFC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E0B3A-059A-461A-97F5-9EDCEAFC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0B41F-AE94-41C7-8B4C-A8D5DA7F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A1942F-2CD0-4430-A176-99EDCF97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9E6D69-8FE3-4EE1-96AC-F88C4082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54ABA0-DFA3-4300-ABB4-121C5A39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842A34-A557-40B6-B9B8-32FC3BE3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318B5-1780-42F9-86E1-DF26CC16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B1A7-1773-427A-8636-C9D1A5A7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1B8426-067F-46C2-B114-1461C7B3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FFECDF-C6DD-4693-AC17-5D2B8389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9261B-52A8-483E-BB26-74440561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3F245-D80D-4F82-B1FB-1512800A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D544B-E0F7-417D-9572-AA4B6692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15908F-F2D8-4FBD-8569-8A468FB2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952A5-1B07-46A8-B387-512A32E5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7F051-99FC-463D-AFB6-BDF78FB1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193314-1AEF-4643-A817-AED530695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B1DF87-8F49-4E37-9C4D-DB3267C9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5506-E6E4-4A91-859C-DD3B77CF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B0CC3-DC54-4396-8E10-0A117F99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2670FC-789B-4330-8F59-9C279443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46BFC-7C50-4DF2-A711-A1BB8F0C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7BBAEB-B53C-4053-A523-518BE943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26222A-9512-4861-867B-17EA8477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CB8AB2-C1C5-4FFE-819C-D37C2DA4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8500B8-2EE8-4A7D-81EB-B4EE6DB3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F52BFB-5BE7-425E-8333-333D81BF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3C9AA-9DC6-4B96-A7A6-E09E863F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6C46B4-99DF-4B69-B0BF-F9E827D9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61EB-D6D6-4B18-AFFF-1D1BEB2E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9A9B21-2C1A-4321-9972-38E7302C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A8D627-FCBC-4EFD-9149-908EB6F8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706F0-32FF-40CB-BD81-C5C8D3E6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F03DA-4390-4C10-9980-376C0908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CD4F18-11E5-4427-8AEE-25C1A74A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B31CA-FC31-4C19-9422-7BFCBF5B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806C8C-26DD-40E1-B7D8-1353BEB7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2BF645-7C6D-4248-8EA4-FCCDB53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A9D9CD-9CB2-499C-B4DB-D0FE2542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8C0E0D-D595-4C4B-B0A1-765DE148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01F9-2306-4AC1-98FB-29A6DDA5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DE2A2-6C9D-49DD-A311-84E9F59A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B671A4-1C39-404B-A49D-1A31BFED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C50C4A-573E-494A-A48C-14E0D645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4987D-333A-45AC-8F61-32E926D2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9761-A1AE-4B1E-B8BC-81A968EC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8FEE-EB1E-4F49-88D0-E50A39EC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32AC0-290E-439E-8D5E-2E7AAA5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99E9-F723-4239-8111-F08BA66A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736EF-178B-41A4-96E9-BF36BC9F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82D7-BC5C-406B-9477-31337781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D281-EFB0-42B4-905B-E11D520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67F4A-FEE6-4A5D-BA70-30B24D70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3DD7-DB3F-4593-BEDE-F6991141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2C3F-0FFE-4236-BB01-EB0F302A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6FCB2-5748-4961-9C56-4505696D6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1A29A-BBB3-4185-8727-1103B896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72D2E-5DDD-4B79-B5ED-94D1037D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7880D-3391-469F-AA20-D4F4C89F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7DE7-7736-4BF5-911D-DB9422B4E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33ADC-75DD-47CF-A00B-EEAF28B0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B9DD-CD4D-4BB0-AE25-72D42071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9B02-CEC6-4E5D-9356-DBD1C0C8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D7006-40CF-4A68-80FC-225CD003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C8CB-E6C8-4C23-ABB6-E22B4318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1EE8-6D9E-41DF-9D03-B5B0D27D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8F4E4-D090-4678-BD84-4C65B017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8E231-D6E6-41B5-AF87-D70E4DCC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D49C7-DB87-4A6A-AA42-45BB6E2E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1A18B-B822-465F-9848-E3EE9357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6AD7-EFE1-4518-BD93-491988D5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26167-AA71-4983-962A-64C9413C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C8B73-D720-4448-AB07-4079F6EE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024C2-EED5-48A4-8624-92FF073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8C12-67EA-42C8-BBD4-752B9FDD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E71BE-BEEF-43F8-9D63-7C2B15C2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0CCA1-4C80-4FA6-801F-1537C1A9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C617C-2473-49DD-BE4B-D2B4420C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594D8-8C61-4ABA-873C-3D685BFB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425F8-7539-4884-B335-DD90A592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CB0D8-C54D-4659-A5EF-1D902F0BC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9C8-3277-4D93-9E89-F6063206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0E196-04D3-48EB-8E93-B7B095AD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59E1E-BF51-4B96-93A6-7F4007BB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0DF8-29E4-4905-8674-824AE21D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21E03-79B2-4A90-B1FF-1A68DF9A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F1E25-BDD2-4C56-83B2-1329C562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CB830-0DF2-43D5-8476-75BF5A17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D41F3-9CE2-489E-B4EF-F7EF0A18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43DD0-3C8D-408A-AE83-F36AEF32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41A1C-9655-41B1-97AE-7EF5211A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16FE4-D019-430D-875B-BBE0F1AF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D14-7DC1-465C-89A7-E4E5229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418AE-714A-483E-82C1-3BB11783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16A74-88CC-4669-8135-535C354B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2C5D9-31D9-4098-A448-CA305DFE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D9701-6DBD-4C8D-9D7A-0D7594B3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64F03-65A5-4A3B-AA17-50791EBD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970C9-D5A1-4D29-89AE-32C24476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092A2-5ABA-432E-8D39-03BD1B59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C06D7-5C8B-405B-95BD-183AB75F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7A09B-EF03-4B2F-B578-5244B71A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02A00-1B4F-4394-B5A4-399BF5C8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7640-A643-424D-A53B-99861BA4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A9FD4-A2EC-4346-8D46-DF383DCA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C9D11-6B2C-4D39-8C7F-6E250DDE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E8D62-DC24-440F-A174-99DD7A83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DCC89-B74C-437D-B91C-388EB6F7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FCBAC-5047-4E13-A7D9-7AB78059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4BFAE-E1D7-487A-991A-8DC5ED74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3A0C1-D5CE-484C-B412-6CB02774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96B70-592F-49B3-9D8F-E784C5D3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17307-A729-4058-94E9-3F3587C6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A0BA-BC74-41D0-A5F3-1058DD61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44F-FBCD-4785-B659-DEBCAF4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E87F6-CE7A-40E4-954E-C4C1154F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1BE24-93B7-4B87-8641-87E2B29E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A40D2-7604-43FD-8F47-786A6936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BA4AD-7278-4987-894A-FE539418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C0B46-59DF-4D0C-988D-73BF12EA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0D0E2-5CBB-4E89-B536-E612FF24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49AF8-522E-4DA6-B95F-3A4F92CC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227E4-7425-4C4B-9FE8-D7D214597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A520A-FD8F-4F06-964A-1F5394DD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9EACF-5BB7-4482-8444-E2E676F7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411F-4278-4C58-82B8-78DEDD11A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3DC6-30FE-42A6-89D0-F83321E34D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0649-7345-44B9-9AE8-374DB0D929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7886-9488-410C-BE34-C7715C9EEC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0180-5620-468E-B069-A6D1B958A7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010B-22A7-476F-AE91-D39B78D83E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000D-43D7-475C-837D-32C42C7A47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7E6F-C39D-4CAB-8318-E8F1BE8F6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3398-9FEC-43B2-A728-DE730920E1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EECB-1CE8-4A91-B7D3-8CAB641586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9D0A-1A32-41D7-B313-7C67275060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43DC-017E-41A7-8912-BE9440D94C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107-9E63-4738-9FAC-F5265C8379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7887-A0AD-4BB7-B3A4-EB466B93FC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3776-4063-48C5-8824-FF6E139A23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78C0-D85E-45A4-B787-701A77969E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4605-06AA-417A-BCE0-065DF7500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7BBD-C469-4470-953F-F0BC2857EE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CCB0-409A-4AFE-8C10-82DBE8C353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91B2-E639-47C0-BCB7-93E52C0E5E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B72B-E3B4-429D-AE98-1ACF349708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4CF5-E9B7-407C-9DA2-3E1D7D847D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311D-F19A-4A49-AD59-11A749AFAC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6500-B793-43BE-8716-5270AB3B43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7BEB-D1F0-41D3-8CFA-9B0CD9B223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0018-B024-4766-A031-C2DC2ACFDA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4538-A603-44C7-99AF-A8BD25BA71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018C-B7A9-463F-BA74-AB7B1FAB2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92B6-7C0E-4ED5-8C8E-20B04B5358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5547-0CE4-4D6F-9BB7-AFFBC3034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36F6-B869-49F1-A867-D1A15B823A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7063-7E1A-4DEE-BA9A-A1989D330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ABA2-D987-4F26-BEA9-91605D5DC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9497-2894-4930-9A58-2F167D840A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6520-75A9-4C6C-A223-B5F1345FB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AE0B-EFA0-41F7-BF51-65A1C44FAB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8FAE-6239-4A2C-A3DF-CFBF2F0F05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6991-FC2E-4A07-8B00-229EABBB66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57E3C-63A6-4E7A-914E-6FE66BFFC3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F396-AD59-4A68-AAA1-B6FC6D199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1366920" y="3038400"/>
            <a:ext cx="6410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0" y="2193840"/>
            <a:ext cx="9144000" cy="24829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663480" y="2513160"/>
            <a:ext cx="287280" cy="2934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684360" y="284796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611280" y="31352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611280" y="349560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622440" y="379404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28440" y="1266840"/>
            <a:ext cx="9087120" cy="473400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611280" y="256536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4"/>
          <a:stretch/>
        </p:blipFill>
        <p:spPr>
          <a:xfrm>
            <a:off x="611280" y="3357720"/>
            <a:ext cx="287280" cy="2934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611280" y="4287960"/>
            <a:ext cx="28728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9360" y="1185840"/>
            <a:ext cx="9125280" cy="5172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3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3" descr=""/>
          <p:cNvPicPr/>
          <p:nvPr/>
        </p:nvPicPr>
        <p:blipFill>
          <a:blip r:embed="rId3"/>
          <a:stretch/>
        </p:blipFill>
        <p:spPr>
          <a:xfrm>
            <a:off x="611280" y="2492280"/>
            <a:ext cx="287280" cy="293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"/>
          <p:cNvPicPr/>
          <p:nvPr/>
        </p:nvPicPr>
        <p:blipFill>
          <a:blip r:embed="rId4"/>
          <a:stretch/>
        </p:blipFill>
        <p:spPr>
          <a:xfrm>
            <a:off x="611280" y="3357720"/>
            <a:ext cx="287280" cy="293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5"/>
          <a:stretch/>
        </p:blipFill>
        <p:spPr>
          <a:xfrm>
            <a:off x="611280" y="4359240"/>
            <a:ext cx="28728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28:39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